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nautical023%5B1%5D.wav" ContentType="audio/x-wav"/>
  <Override PartName="/ppt/media/image2.png" ContentType="image/png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7797-4837-4CB5-87D7-A5B61BCC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0D30-F1B3-46A8-805F-217D6194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506-1AE8-45E2-9005-5C538F97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7684-C161-4107-BF8F-E2E08EC7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40FA-5E42-4F98-B491-809C0E61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5F09-ADB1-4D26-874E-4CDA60CE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44F2-F5FD-43FB-B0EB-B401906A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C3DF-201F-44A8-9CD5-7DCB618E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C6DB-EAD6-4F6E-A377-2568C936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758C-FFBB-4914-A9C5-93BFA689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E4C2-FCCF-4D6F-94D2-CCAAE961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A4D2-7C45-4980-AD9E-2E801AA3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C8E5-428F-449E-9D54-FF23558C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2834-5005-459B-A8C0-8C5B6B8E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60FB-5BE6-4793-ABBC-3CFFA49A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2B9B-C277-4D7B-AEC0-E8BFA387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89B0-51BF-41F3-B9AF-26A54013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485-E1F1-43E0-ABE8-04DA7062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9B6-A089-4909-AC8D-96612D1B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8AF9-0175-43F5-B4F7-7BDD0FF1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B094-E44C-4EA8-B7AD-6D59EF5F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1BF0-A774-41D8-A1ED-24EF3F79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70C-71E2-41D7-9A23-BD16FA6D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3D6-7AEF-4E51-BC66-A4D8370A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B004-C6BF-47C5-AB0C-90E5FE225627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F3EA-42E0-452B-A9DD-74211786EF55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audio" Target="../media/nautical023%5B1%5D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he First World War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21276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The Assassination:  Saraje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438280" y="1143000"/>
            <a:ext cx="5639040" cy="5388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212760"/>
            <a:ext cx="7620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6600"/>
                </a:solidFill>
                <a:latin typeface="Comic Sans MS"/>
              </a:rPr>
              <a:t>    </a:t>
            </a:r>
            <a:r>
              <a:rPr b="1" lang="en-US" sz="4600" spc="-1" strike="noStrike">
                <a:solidFill>
                  <a:srgbClr val="996600"/>
                </a:solidFill>
                <a:latin typeface="Comic Sans MS"/>
              </a:rPr>
              <a:t>The Assassi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4384" t="4107" r="2444" b="10961"/>
          <a:stretch/>
        </p:blipFill>
        <p:spPr>
          <a:xfrm>
            <a:off x="2001960" y="1752480"/>
            <a:ext cx="3886200" cy="297828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575320" y="2666880"/>
            <a:ext cx="3186000" cy="3048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22" name=""/>
          <p:cNvSpPr/>
          <p:nvPr/>
        </p:nvSpPr>
        <p:spPr>
          <a:xfrm flipH="1" flipV="1">
            <a:off x="5028840" y="2971440"/>
            <a:ext cx="1219320" cy="1143000"/>
          </a:xfrm>
          <a:prstGeom prst="line">
            <a:avLst/>
          </a:prstGeom>
          <a:ln cap="sq" w="38160">
            <a:solidFill>
              <a:srgbClr val="e61f0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99000" y="1143000"/>
            <a:ext cx="20901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b1b53"/>
                </a:solidFill>
                <a:latin typeface="Comic Sans MS"/>
              </a:rPr>
              <a:t>Gavrilo</a:t>
            </a:r>
            <a:br>
              <a:rPr sz="4200"/>
            </a:br>
            <a:r>
              <a:rPr b="1" lang="en-US" sz="4200" spc="-1" strike="noStrike">
                <a:solidFill>
                  <a:srgbClr val="1b1b53"/>
                </a:solidFill>
                <a:latin typeface="Comic Sans MS"/>
              </a:rPr>
              <a:t>Princi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21276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Who’s To Bl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00200" y="1219320"/>
            <a:ext cx="7238880" cy="50673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523880" y="447840"/>
            <a:ext cx="7315200" cy="5876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1494000"/>
            <a:ext cx="1720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14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533520"/>
            <a:ext cx="914400" cy="914400"/>
          </a:xfrm>
          <a:prstGeom prst="lightningBol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4572000"/>
            <a:ext cx="914400" cy="914400"/>
          </a:xfrm>
          <a:prstGeom prst="lightningBol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American Neutralit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ionism – policy of opposition to political or economic ties with other 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opinion is strongly di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immigrants have connections to countries at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athy for the Al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/ economic ties to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 atrocities in 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U.S. Enters the War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ed repayment of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2.3 billion loaned to Allies for war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U-B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tish blockade of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 u-boat response – unrestricted submarine warf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57600" y="441360"/>
            <a:ext cx="52578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The Sinking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of the Lusita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9480" y="152280"/>
            <a:ext cx="2254320" cy="6324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3398760" y="1981080"/>
            <a:ext cx="5284800" cy="34308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utical023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21276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Allied Ships Sunk by U-Bo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3962520" cy="296388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57800" y="3657600"/>
            <a:ext cx="3733920" cy="292428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5496120" y="1413000"/>
            <a:ext cx="33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fore the US Enters the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19810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9080" y="46134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fter the US Enters the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41008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U.S. Enters the War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mmerman note – Germany promises support for Mexico to recover lost territories if U.S. enters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 Wilson –unable to negotiate a “peace among equals” so we are going to “Make the World Safe for Democrac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23880" y="15228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The Zimmerman Tele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>
            <a:lum contrast="12000"/>
          </a:blip>
          <a:srcRect l="0" t="8220" r="0" b="0"/>
          <a:stretch/>
        </p:blipFill>
        <p:spPr>
          <a:xfrm>
            <a:off x="2590920" y="914400"/>
            <a:ext cx="5271840" cy="57150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-163440" y="955800"/>
            <a:ext cx="3152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lson pro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ace with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cto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rman respon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limited Subma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rfare in the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on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ret proposal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47242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Long-Term Causes of WWI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itarism – the development of armed forces and their use as a tool of diplom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ance system – treaties of assistance between nations to support one another if attacked (mutual defen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Quick Review Key Concept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four main causes of WW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look in your notes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end with 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ree reasons the US entered WW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f the reasons were things that other countries were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big reason was to insure we got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9b80"/>
                </a:solidFill>
                <a:latin typeface="Eurostile"/>
              </a:rPr>
              <a:t>1917 – Selective Service Act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295280"/>
            <a:ext cx="7924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97040" indent="-67464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thorized the federal government to raise a national arm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7040" indent="-67464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luded all men 18 to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7040" indent="-674640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285480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4,000,000 men registered for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draft by the end of 1918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285480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,800,000 men served in WW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2,000,000 saw active combat)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285480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00,000 African-America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rved in segregated unit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00200" y="1600200"/>
            <a:ext cx="57150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000066"/>
                  </a:outerShdw>
                </a:effectLst>
                <a:latin typeface="PosterBodoni BT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000066"/>
                  </a:outerShdw>
                </a:effectLst>
                <a:latin typeface="PosterBodoni BT"/>
              </a:rPr>
              <a:t>Expansion of 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4303641" blurRad="0" rotWithShape="0">
                  <a:srgbClr val="000066"/>
                </a:outerShdw>
              </a:effectLst>
              <a:latin typeface="PosterBodoni BT"/>
              <a:ea typeface="PosterBodoni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000066"/>
                  </a:outerShdw>
                </a:effectLst>
                <a:latin typeface="PosterBodoni BT"/>
              </a:rPr>
              <a:t>Federal Governmen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4303641" blurRad="0" rotWithShape="0">
                  <a:srgbClr val="000066"/>
                </a:outerShdw>
              </a:effectLst>
              <a:latin typeface="PosterBodoni BT"/>
              <a:ea typeface="PosterBodoni BT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2956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9b80"/>
                </a:solidFill>
                <a:latin typeface="Eurostile"/>
              </a:rPr>
              <a:t>Impacts of the Expansion of the Federal Government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752480"/>
            <a:ext cx="79250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employment almost disappea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ssive govt. regulations in econo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ose cooperation between public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d private s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al opportunities for minority (including women)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1478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9b80"/>
                </a:solidFill>
                <a:latin typeface="Eurostile"/>
              </a:rPr>
              <a:t>Opportunities for </a:t>
            </a:r>
            <a:br>
              <a:rPr sz="4400"/>
            </a:br>
            <a:r>
              <a:rPr b="1" i="1" lang="en-US" sz="4400" spc="-1" strike="noStrike">
                <a:solidFill>
                  <a:srgbClr val="d69b80"/>
                </a:solidFill>
                <a:latin typeface="Eurostile"/>
              </a:rPr>
              <a:t>African-Americans in WW1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97040" indent="-736560">
              <a:lnSpc>
                <a:spcPct val="100000"/>
              </a:lnSpc>
              <a:spcBef>
                <a:spcPts val="850"/>
              </a:spcBef>
              <a:buSzPct val="1542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Great Migration.”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  1916 – 191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255680" indent="-285840">
              <a:lnSpc>
                <a:spcPct val="100000"/>
              </a:lnSpc>
              <a:spcBef>
                <a:spcPts val="751"/>
              </a:spcBef>
              <a:buSzPct val="15433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frican-Americans move north for war industry jobs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97040" indent="-736560">
              <a:lnSpc>
                <a:spcPct val="100000"/>
              </a:lnSpc>
              <a:spcBef>
                <a:spcPts val="850"/>
              </a:spcBef>
              <a:buSzPct val="1542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Enlistment in segregated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unit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523880" y="1523880"/>
            <a:ext cx="60199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482400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000066"/>
                  </a:outerShdw>
                </a:effectLst>
                <a:latin typeface="PosterBodoni BT"/>
              </a:rPr>
              <a:t>Attacks on</a:t>
            </a:r>
            <a:endParaRPr b="0" lang="en-US" sz="1800" spc="1" strike="noStrike">
              <a:ln w="19080">
                <a:solidFill>
                  <a:srgbClr val="482400"/>
                </a:solidFill>
                <a:miter/>
              </a:ln>
              <a:solidFill>
                <a:srgbClr val="cc0000"/>
              </a:solidFill>
              <a:effectLst>
                <a:outerShdw dist="40186" dir="4303641" blurRad="0" rotWithShape="0">
                  <a:srgbClr val="000066"/>
                </a:outerShdw>
              </a:effectLst>
              <a:latin typeface="PosterBodoni BT"/>
              <a:ea typeface="PosterBodoni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482400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000066"/>
                  </a:outerShdw>
                </a:effectLst>
                <a:latin typeface="PosterBodoni BT"/>
              </a:rPr>
              <a:t>Civil Liberties</a:t>
            </a:r>
            <a:endParaRPr b="0" lang="en-US" sz="1800" spc="1" strike="noStrike">
              <a:ln w="19080">
                <a:solidFill>
                  <a:srgbClr val="482400"/>
                </a:solidFill>
                <a:miter/>
              </a:ln>
              <a:solidFill>
                <a:srgbClr val="cc0000"/>
              </a:solidFill>
              <a:effectLst>
                <a:outerShdw dist="40186" dir="4303641" blurRad="0" rotWithShape="0">
                  <a:srgbClr val="000066"/>
                </a:outerShdw>
              </a:effectLst>
              <a:latin typeface="PosterBodoni BT"/>
              <a:ea typeface="PosterBodoni BT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320"/>
            <a:ext cx="8305560" cy="1341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d69b80"/>
                </a:solidFill>
                <a:latin typeface="Eurostile"/>
              </a:rPr>
              <a:t>Government Excess &amp; Threats to the Civil Liberties of Americans</a:t>
            </a:r>
            <a:endParaRPr b="0" i="1" lang="en-US" sz="3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828800"/>
            <a:ext cx="7086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400" spc="-1" strike="noStrike">
                <a:solidFill>
                  <a:srgbClr val="cc3300"/>
                </a:solidFill>
                <a:latin typeface="Comic Sans MS"/>
              </a:rPr>
              <a:t>Espionage Act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– 1917</a:t>
            </a:r>
            <a:br>
              <a:rPr sz="34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forbade actions tha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obstructed recruitment 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efforts to promot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insubordination in the military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8305920" cy="1218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d69b80"/>
                </a:solidFill>
                <a:latin typeface="Eurostile"/>
              </a:rPr>
              <a:t>Government Excess &amp; Threats </a:t>
            </a:r>
            <a:br>
              <a:rPr sz="3800"/>
            </a:br>
            <a:r>
              <a:rPr b="1" i="1" lang="en-US" sz="3800" spc="-1" strike="noStrike">
                <a:solidFill>
                  <a:srgbClr val="d69b80"/>
                </a:solidFill>
                <a:latin typeface="Eurostile"/>
              </a:rPr>
              <a:t>to the Civil Liberties of Americans</a:t>
            </a:r>
            <a:endParaRPr b="0" i="1" lang="en-US" sz="3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edition Ac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– 1918</a:t>
            </a:r>
            <a:br>
              <a:rPr sz="3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it was a crime to speak against the 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   purchase of war bonds or anything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disloyal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against</a:t>
            </a:r>
            <a:r>
              <a:rPr b="1" i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about the US Government,the US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Constitution, or the US armed forc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258840"/>
            <a:ext cx="8381880" cy="853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9b80"/>
                </a:solidFill>
                <a:latin typeface="Eurostile"/>
              </a:rPr>
              <a:t>Government Excess &amp; Threats </a:t>
            </a:r>
            <a:br>
              <a:rPr sz="3600"/>
            </a:br>
            <a:r>
              <a:rPr b="1" i="1" lang="en-US" sz="3600" spc="-1" strike="noStrike">
                <a:solidFill>
                  <a:srgbClr val="d69b80"/>
                </a:solidFill>
                <a:latin typeface="Eurostile"/>
              </a:rPr>
              <a:t>to the Civil Liberties of Americans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1676520"/>
            <a:ext cx="80773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cc3300"/>
                </a:solidFill>
                <a:latin typeface="Comic Sans MS"/>
              </a:rPr>
              <a:t>Schenck v. U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– 1919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The most stringent protection of free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     speech would not protect a man in falsely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     shouting fire in a theater and causing a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     panic.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[Justice Oliver Wendell Holme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RESUL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f an act of speech posed a </a:t>
            </a:r>
            <a:r>
              <a:rPr b="1" lang="en-US" sz="2200" spc="-1" strike="noStrike" u="sng">
                <a:solidFill>
                  <a:srgbClr val="cc3300"/>
                </a:solidFill>
                <a:uFillTx/>
                <a:latin typeface="Comic Sans MS"/>
              </a:rPr>
              <a:t>clear and</a:t>
            </a:r>
            <a:r>
              <a:rPr b="1" lang="en-US" sz="2200" spc="-1" strike="noStrike">
                <a:solidFill>
                  <a:srgbClr val="cc3300"/>
                </a:solidFill>
                <a:latin typeface="Comic Sans MS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cc3300"/>
                </a:solidFill>
                <a:latin typeface="Comic Sans MS"/>
              </a:rPr>
              <a:t>     </a:t>
            </a:r>
            <a:r>
              <a:rPr b="1" lang="en-US" sz="2200" spc="-1" strike="noStrike" u="sng">
                <a:solidFill>
                  <a:srgbClr val="cc3300"/>
                </a:solidFill>
                <a:uFillTx/>
                <a:latin typeface="Comic Sans MS"/>
              </a:rPr>
              <a:t>present danger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, then Congress had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 the power to restrain such spee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Wilson Fights for Peace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1918 German military takes over the German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Kaiser began peace negot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army/navy mut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y surrenders 11/11/1918 @ 11:00 a.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deaths @ 10:59 a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Long-Term Causes of WWI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erialism – the policy in which stronger nations extend their economic, political, or military control over weaker terr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ism – belief that national interests and national unity should be placed ahead of global cooperation and that a nation’s foreign affairs should be guided by self-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Wilson’s Fourteen Point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ould you handle the peace treaty?  What things would you inclu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ident Wilson’s Go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 or reduce the main causes of WW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“League of Nations” to handle disputes betwee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reaty of Versaille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tain and France wanted harsh conditions to insure Germany would not be a threat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 accepts blame for the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 has to pay 132 billion in rep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 military drastically 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new nations created – Czechoslovaki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gary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ia, Serbia,Poland,Lithuania, Estonia, Latvi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in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Weaknesses of the Treat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iliates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s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signs colonies – not self-determination or free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S. Senate rejects Treaty and League of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onsequences of the War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– 10 million dead, 20 million inj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 - $330 billion, destruction of European econo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destruction of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al – End of German, Austrian, Russian, and Ottoman Emp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weak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ment of commu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ical – deepens and expands nationalism, expands pessimistic view of huma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US Consequences of WWI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0,000 dead – 300,000 inju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lerates America’s emergence as world’s greatest industrial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ocates American population to urban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s anti-immigrant and anti-radical senti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auses of World War I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96840" y="1911240"/>
            <a:ext cx="6112080" cy="3797280"/>
            <a:chOff x="1896840" y="1911240"/>
            <a:chExt cx="6112080" cy="3797280"/>
          </a:xfrm>
        </p:grpSpPr>
        <p:sp>
          <p:nvSpPr>
            <p:cNvPr id="96" name="_s6149"/>
            <p:cNvSpPr/>
            <p:nvPr/>
          </p:nvSpPr>
          <p:spPr>
            <a:xfrm>
              <a:off x="4181400" y="2451240"/>
              <a:ext cx="1542960" cy="1542960"/>
            </a:xfrm>
            <a:prstGeom prst="ellipse">
              <a:avLst/>
            </a:prstGeom>
            <a:solidFill>
              <a:srgbClr val="d69b80">
                <a:alpha val="50000"/>
              </a:srgbClr>
            </a:solidFill>
            <a:ln w="468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6150"/>
            <p:cNvSpPr/>
            <p:nvPr/>
          </p:nvSpPr>
          <p:spPr>
            <a:xfrm>
              <a:off x="4181400" y="1911240"/>
              <a:ext cx="15429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ATIONALI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6151"/>
            <p:cNvSpPr/>
            <p:nvPr/>
          </p:nvSpPr>
          <p:spPr>
            <a:xfrm>
              <a:off x="4768560" y="3038400"/>
              <a:ext cx="1543320" cy="1542960"/>
            </a:xfrm>
            <a:prstGeom prst="ellipse">
              <a:avLst/>
            </a:prstGeom>
            <a:solidFill>
              <a:srgbClr val="caa966">
                <a:alpha val="50000"/>
              </a:srgbClr>
            </a:solidFill>
            <a:ln w="4680">
              <a:solidFill>
                <a:srgbClr val="caa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6152"/>
            <p:cNvSpPr/>
            <p:nvPr/>
          </p:nvSpPr>
          <p:spPr>
            <a:xfrm>
              <a:off x="6465600" y="3618000"/>
              <a:ext cx="15433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MPERIALI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6153"/>
            <p:cNvSpPr/>
            <p:nvPr/>
          </p:nvSpPr>
          <p:spPr>
            <a:xfrm>
              <a:off x="4181400" y="3625920"/>
              <a:ext cx="1542960" cy="1542960"/>
            </a:xfrm>
            <a:prstGeom prst="ellipse">
              <a:avLst/>
            </a:prstGeom>
            <a:solidFill>
              <a:srgbClr val="caa966">
                <a:alpha val="50000"/>
              </a:srgbClr>
            </a:solidFill>
            <a:ln w="4680">
              <a:solidFill>
                <a:srgbClr val="caa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6154"/>
            <p:cNvSpPr/>
            <p:nvPr/>
          </p:nvSpPr>
          <p:spPr>
            <a:xfrm>
              <a:off x="4181400" y="5322960"/>
              <a:ext cx="1542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LITARI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6155"/>
            <p:cNvSpPr/>
            <p:nvPr/>
          </p:nvSpPr>
          <p:spPr>
            <a:xfrm>
              <a:off x="3593880" y="3038400"/>
              <a:ext cx="1543320" cy="1542960"/>
            </a:xfrm>
            <a:prstGeom prst="ellipse">
              <a:avLst/>
            </a:prstGeom>
            <a:solidFill>
              <a:srgbClr val="969696">
                <a:alpha val="50000"/>
              </a:srgbClr>
            </a:solidFill>
            <a:ln w="46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6156"/>
            <p:cNvSpPr/>
            <p:nvPr/>
          </p:nvSpPr>
          <p:spPr>
            <a:xfrm>
              <a:off x="1896840" y="3618000"/>
              <a:ext cx="15433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LLI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003560" y="3917880"/>
            <a:ext cx="10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R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hoosing Side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Po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man Emp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 Entente (All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ed States (19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Essential Questio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it in the national interest of the US to stay neutral or declare war in 1917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Section 22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ed on June 28, 191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otivated the terrorists to assassinate the Archduke and his wif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ed as a result of the assassin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212760"/>
            <a:ext cx="7620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an-Slavism:  The Balkans, 19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2438280"/>
            <a:ext cx="3200400" cy="164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b1b53"/>
                </a:solidFill>
                <a:latin typeface="Comic Sans MS"/>
              </a:rPr>
              <a:t>The</a:t>
            </a:r>
            <a:br>
              <a:rPr sz="3400"/>
            </a:br>
            <a:r>
              <a:rPr b="1" lang="en-US" sz="3400" spc="-1" strike="noStrike">
                <a:solidFill>
                  <a:srgbClr val="1b1b53"/>
                </a:solidFill>
                <a:latin typeface="Comic Sans MS"/>
              </a:rPr>
              <a:t>“Powder Keg”</a:t>
            </a:r>
            <a:br>
              <a:rPr sz="3400"/>
            </a:br>
            <a:r>
              <a:rPr b="1" lang="en-US" sz="3400" spc="-1" strike="noStrike">
                <a:solidFill>
                  <a:srgbClr val="1b1b53"/>
                </a:solidFill>
                <a:latin typeface="Comic Sans MS"/>
              </a:rPr>
              <a:t>of Europ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>
            <a:lum contrast="6000"/>
          </a:blip>
          <a:srcRect l="1632" t="1431" r="2208" b="1431"/>
          <a:stretch/>
        </p:blipFill>
        <p:spPr>
          <a:xfrm>
            <a:off x="1371600" y="1066680"/>
            <a:ext cx="4694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212760"/>
            <a:ext cx="7620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Archduke Franz Ferdinand &amp; His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14600" y="1676520"/>
            <a:ext cx="5410080" cy="48258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5:55:16Z</dcterms:created>
  <dc:creator> </dc:creator>
  <dc:description/>
  <dc:language>en-US</dc:language>
  <cp:lastModifiedBy>School District U46</cp:lastModifiedBy>
  <dcterms:modified xsi:type="dcterms:W3CDTF">2010-11-07T20:04:07Z</dcterms:modified>
  <cp:revision>9</cp:revision>
  <dc:subject/>
  <dc:title>The First World War</dc:title>
</cp:coreProperties>
</file>